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4FB-26DD-4031-AD6E-87EE57E1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9D2-10F2-4DF7-8AF1-82816AD4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531-14A4-4959-8BEB-2033757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C4A-3B8A-402A-BEE3-1FE83E3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D45-7CBE-4D1A-9E3E-C766670F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C08-5AE3-420A-8F9D-0B4D8B3B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5F4-64EA-42D9-A926-E099F65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AE3-ADB3-4BD7-9D7A-33D50E1D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2C0-F8E2-4D2B-BCAA-F6B2C650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790-EDFD-4A0D-B716-8410F434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3B1-2F9D-4AD3-9761-BD5F3ADE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357-9C81-475E-AC81-0528B220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ADF2-E375-4E5C-8EC3-C438C46DF232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0934-8842-45CF-AEDC-CA6E28CF70E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0296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411280" y="2637000"/>
            <a:ext cx="440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章 浮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988280" y="907920"/>
            <a:ext cx="383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二、注意区分一些容易混淆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47640" y="1844640"/>
            <a:ext cx="8001000" cy="3962880"/>
          </a:xfrm>
          <a:prstGeom prst="rect">
            <a:avLst/>
          </a:prstGeom>
          <a:gradFill rotWithShape="0">
            <a:gsLst>
              <a:gs pos="0">
                <a:srgbClr val="ffdd9c"/>
              </a:gs>
              <a:gs pos="100000">
                <a:srgbClr val="ffd479"/>
              </a:gs>
            </a:gsLst>
            <a:lin ang="5400000"/>
          </a:gra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上浮、漂浮、悬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视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物体排开的液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排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质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物体排开液体的质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的密度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液体的密度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的体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物体排开液体的体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物体露出液面的体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2557440"/>
            <a:ext cx="82296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注重物理图形的再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注重物理过程的展开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研究对象的选取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善于排除干扰因素和分析隐含条件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将实际问题转化为物理模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001320" y="16178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浮力综合题解题方法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142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143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堂小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1628640"/>
            <a:ext cx="8677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个实心球质量相等，放入水中后它们露出水面的体积分别是各自体积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（      ）。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的体积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: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的密度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所受浮力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甲、乙两球所受浮力之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142040" y="2205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151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152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堂训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4000" y="191628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一长方形木块，质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漂浮于密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9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液体中，露出液面的高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木块底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5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木块密度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651640" y="2997360"/>
            <a:ext cx="19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75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9640" y="1015920"/>
            <a:ext cx="8245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木块竖直地浮在水面上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体积露出水面，若把露出的体积切掉，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将全部浸没在水中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剩余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浸没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剩余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浸没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木块下沉至水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508720" y="1592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8360" y="141300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器内盛有水，在一试管里面放一小球后，浮在水面上。如图所示，现将小球取下沉入水中，试管仍浮在水面上，则 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面下降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面上升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器底部受到的液体的压强不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管下表面受到的液体压强变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6804000" y="3068640"/>
            <a:ext cx="2017440" cy="1944360"/>
            <a:chOff x="6804000" y="3068640"/>
            <a:chExt cx="2017440" cy="1944360"/>
          </a:xfrm>
        </p:grpSpPr>
        <p:grpSp>
          <p:nvGrpSpPr>
            <p:cNvPr id="164" name="Group 8"/>
            <p:cNvGrpSpPr/>
            <p:nvPr/>
          </p:nvGrpSpPr>
          <p:grpSpPr>
            <a:xfrm>
              <a:off x="6804000" y="3068640"/>
              <a:ext cx="2017440" cy="1944360"/>
              <a:chOff x="6804000" y="3068640"/>
              <a:chExt cx="2017440" cy="1944360"/>
            </a:xfrm>
          </p:grpSpPr>
          <p:grpSp>
            <p:nvGrpSpPr>
              <p:cNvPr id="165" name="Group 9"/>
              <p:cNvGrpSpPr/>
              <p:nvPr/>
            </p:nvGrpSpPr>
            <p:grpSpPr>
              <a:xfrm>
                <a:off x="6887520" y="3583080"/>
                <a:ext cx="1891800" cy="1429920"/>
                <a:chOff x="6887520" y="3583080"/>
                <a:chExt cx="1891800" cy="1429920"/>
              </a:xfrm>
            </p:grpSpPr>
            <p:sp>
              <p:nvSpPr>
                <p:cNvPr id="166" name="Rectangle 10"/>
                <p:cNvSpPr/>
                <p:nvPr/>
              </p:nvSpPr>
              <p:spPr>
                <a:xfrm>
                  <a:off x="6887520" y="3583080"/>
                  <a:ext cx="1891800" cy="3657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AutoShape 11"/>
                <p:cNvSpPr/>
                <p:nvPr/>
              </p:nvSpPr>
              <p:spPr>
                <a:xfrm>
                  <a:off x="6887520" y="3737160"/>
                  <a:ext cx="1891800" cy="127584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AutoShape 12"/>
              <p:cNvSpPr/>
              <p:nvPr/>
            </p:nvSpPr>
            <p:spPr>
              <a:xfrm>
                <a:off x="6887520" y="3159720"/>
                <a:ext cx="1892160" cy="1853280"/>
              </a:xfrm>
              <a:prstGeom prst="roundRect">
                <a:avLst>
                  <a:gd name="adj" fmla="val 9588"/>
                </a:avLst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3"/>
              <p:cNvSpPr/>
              <p:nvPr/>
            </p:nvSpPr>
            <p:spPr>
              <a:xfrm>
                <a:off x="6804000" y="3068640"/>
                <a:ext cx="2017440" cy="24228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Line 14"/>
            <p:cNvSpPr/>
            <p:nvPr/>
          </p:nvSpPr>
          <p:spPr>
            <a:xfrm>
              <a:off x="6905520" y="3578400"/>
              <a:ext cx="184932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5"/>
            <p:cNvGrpSpPr/>
            <p:nvPr/>
          </p:nvGrpSpPr>
          <p:grpSpPr>
            <a:xfrm>
              <a:off x="7380360" y="3139920"/>
              <a:ext cx="755280" cy="1060200"/>
              <a:chOff x="7380360" y="3139920"/>
              <a:chExt cx="755280" cy="1060200"/>
            </a:xfrm>
          </p:grpSpPr>
          <p:sp>
            <p:nvSpPr>
              <p:cNvPr id="172" name="Rectangle 16"/>
              <p:cNvSpPr/>
              <p:nvPr/>
            </p:nvSpPr>
            <p:spPr>
              <a:xfrm>
                <a:off x="7463520" y="3166560"/>
                <a:ext cx="587160" cy="1033560"/>
              </a:xfrm>
              <a:prstGeom prst="rect">
                <a:avLst/>
              </a:prstGeom>
              <a:solidFill>
                <a:srgbClr val="4472c4"/>
              </a:solidFill>
              <a:ln w="28440">
                <a:solidFill>
                  <a:srgbClr val="3690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7"/>
              <p:cNvSpPr/>
              <p:nvPr/>
            </p:nvSpPr>
            <p:spPr>
              <a:xfrm>
                <a:off x="7380360" y="3139920"/>
                <a:ext cx="755280" cy="106200"/>
              </a:xfrm>
              <a:prstGeom prst="rect">
                <a:avLst/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Oval 18"/>
            <p:cNvSpPr/>
            <p:nvPr/>
          </p:nvSpPr>
          <p:spPr>
            <a:xfrm>
              <a:off x="7596000" y="3846600"/>
              <a:ext cx="358920" cy="353880"/>
            </a:xfrm>
            <a:prstGeom prst="ellipse">
              <a:avLst/>
            </a:prstGeom>
            <a:gradFill rotWithShape="0">
              <a:gsLst>
                <a:gs pos="0">
                  <a:srgbClr val="ed7d31"/>
                </a:gs>
                <a:gs pos="100000">
                  <a:srgbClr val="703b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52320" y="584280"/>
            <a:ext cx="777240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解析</a:t>
            </a: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以试管和小球为研究对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球在试管内，试管漂浮：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球沉底，试管漂浮：  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支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总重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不变，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支   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∴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＞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根据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l-GR" sz="2800" spc="-1" strike="noStrike">
                <a:solidFill>
                  <a:srgbClr val="f8081f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水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     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∴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＞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f8081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液面下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试管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排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变小，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变小，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根据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＝</a:t>
            </a:r>
            <a:r>
              <a:rPr b="1" i="1" lang="el-GR" sz="2800" spc="-1" strike="noStrike">
                <a:solidFill>
                  <a:srgbClr val="f8081f"/>
                </a:solidFill>
                <a:latin typeface="Times New Roman"/>
              </a:rPr>
              <a:t>ρ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h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　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85800" y="4343400"/>
            <a:ext cx="5410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同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当小球取出放入水中漂浮或悬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浮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</a:rPr>
              <a:t>排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液面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6516720" y="4221000"/>
            <a:ext cx="2017440" cy="1944360"/>
            <a:chOff x="6516720" y="4221000"/>
            <a:chExt cx="2017440" cy="1944360"/>
          </a:xfrm>
        </p:grpSpPr>
        <p:grpSp>
          <p:nvGrpSpPr>
            <p:cNvPr id="179" name="Group 7"/>
            <p:cNvGrpSpPr/>
            <p:nvPr/>
          </p:nvGrpSpPr>
          <p:grpSpPr>
            <a:xfrm>
              <a:off x="6516720" y="4221000"/>
              <a:ext cx="2017440" cy="1944360"/>
              <a:chOff x="6516720" y="4221000"/>
              <a:chExt cx="2017440" cy="1944360"/>
            </a:xfrm>
          </p:grpSpPr>
          <p:grpSp>
            <p:nvGrpSpPr>
              <p:cNvPr id="180" name="Group 8"/>
              <p:cNvGrpSpPr/>
              <p:nvPr/>
            </p:nvGrpSpPr>
            <p:grpSpPr>
              <a:xfrm>
                <a:off x="6600240" y="4735440"/>
                <a:ext cx="1891800" cy="1429920"/>
                <a:chOff x="6600240" y="4735440"/>
                <a:chExt cx="1891800" cy="1429920"/>
              </a:xfrm>
            </p:grpSpPr>
            <p:sp>
              <p:nvSpPr>
                <p:cNvPr id="181" name="Rectangle 9"/>
                <p:cNvSpPr/>
                <p:nvPr/>
              </p:nvSpPr>
              <p:spPr>
                <a:xfrm>
                  <a:off x="6600240" y="4735440"/>
                  <a:ext cx="1891800" cy="36576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10"/>
                <p:cNvSpPr/>
                <p:nvPr/>
              </p:nvSpPr>
              <p:spPr>
                <a:xfrm>
                  <a:off x="6600240" y="4889520"/>
                  <a:ext cx="1891800" cy="127584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1"/>
              <p:cNvSpPr/>
              <p:nvPr/>
            </p:nvSpPr>
            <p:spPr>
              <a:xfrm>
                <a:off x="6600240" y="4312080"/>
                <a:ext cx="1892160" cy="1853280"/>
              </a:xfrm>
              <a:prstGeom prst="roundRect">
                <a:avLst>
                  <a:gd name="adj" fmla="val 9588"/>
                </a:avLst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2"/>
              <p:cNvSpPr/>
              <p:nvPr/>
            </p:nvSpPr>
            <p:spPr>
              <a:xfrm>
                <a:off x="6516720" y="4221000"/>
                <a:ext cx="2017440" cy="24228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Line 13"/>
            <p:cNvSpPr/>
            <p:nvPr/>
          </p:nvSpPr>
          <p:spPr>
            <a:xfrm>
              <a:off x="6618240" y="4730760"/>
              <a:ext cx="184932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"/>
            <p:cNvGrpSpPr/>
            <p:nvPr/>
          </p:nvGrpSpPr>
          <p:grpSpPr>
            <a:xfrm>
              <a:off x="7093080" y="4292280"/>
              <a:ext cx="755280" cy="1060200"/>
              <a:chOff x="7093080" y="4292280"/>
              <a:chExt cx="755280" cy="1060200"/>
            </a:xfrm>
          </p:grpSpPr>
          <p:sp>
            <p:nvSpPr>
              <p:cNvPr id="187" name="Rectangle 15"/>
              <p:cNvSpPr/>
              <p:nvPr/>
            </p:nvSpPr>
            <p:spPr>
              <a:xfrm>
                <a:off x="7176240" y="4318920"/>
                <a:ext cx="587160" cy="1033560"/>
              </a:xfrm>
              <a:prstGeom prst="rect">
                <a:avLst/>
              </a:prstGeom>
              <a:solidFill>
                <a:srgbClr val="4472c4"/>
              </a:solidFill>
              <a:ln w="28440">
                <a:solidFill>
                  <a:srgbClr val="3690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6"/>
              <p:cNvSpPr/>
              <p:nvPr/>
            </p:nvSpPr>
            <p:spPr>
              <a:xfrm>
                <a:off x="7093080" y="4292280"/>
                <a:ext cx="755280" cy="106200"/>
              </a:xfrm>
              <a:prstGeom prst="rect">
                <a:avLst/>
              </a:prstGeom>
              <a:solidFill>
                <a:srgbClr val="447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Oval 17"/>
            <p:cNvSpPr/>
            <p:nvPr/>
          </p:nvSpPr>
          <p:spPr>
            <a:xfrm>
              <a:off x="7308720" y="4998960"/>
              <a:ext cx="358920" cy="353880"/>
            </a:xfrm>
            <a:prstGeom prst="ellipse">
              <a:avLst/>
            </a:prstGeom>
            <a:gradFill rotWithShape="0">
              <a:gsLst>
                <a:gs pos="0">
                  <a:srgbClr val="ed7d31"/>
                </a:gs>
                <a:gs pos="100000">
                  <a:srgbClr val="703b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14400" y="620640"/>
            <a:ext cx="754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冰块漂浮在水面上，当冰完全熔化后，容器中的水面将如何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Object 3" descr=""/>
          <p:cNvPicPr/>
          <p:nvPr/>
        </p:nvPicPr>
        <p:blipFill>
          <a:blip r:embed="rId1"/>
          <a:stretch/>
        </p:blipFill>
        <p:spPr>
          <a:xfrm>
            <a:off x="2050920" y="2381400"/>
            <a:ext cx="4270680" cy="111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990720" y="363060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当冰化成水后，质量不变，所以，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水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f8081f"/>
                </a:solidFill>
                <a:latin typeface="Times New Roman"/>
              </a:rPr>
              <a:t>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5" descr=""/>
          <p:cNvPicPr/>
          <p:nvPr/>
        </p:nvPicPr>
        <p:blipFill>
          <a:blip r:embed="rId2"/>
          <a:stretch/>
        </p:blipFill>
        <p:spPr>
          <a:xfrm>
            <a:off x="1979640" y="4052880"/>
            <a:ext cx="3105000" cy="11048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888840" y="5075280"/>
            <a:ext cx="7239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冰排开水的体积等于冰化成水的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081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液面高度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6280" y="1854360"/>
            <a:ext cx="7543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解析</a:t>
            </a:r>
            <a:r>
              <a:rPr b="1" lang="en-US" sz="2800" spc="-1" strike="noStrike">
                <a:solidFill>
                  <a:srgbClr val="f8081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f8081f"/>
                </a:solidFill>
                <a:latin typeface="宋体"/>
              </a:rPr>
              <a:t>冰漂浮在水面上，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zh-CN" sz="2000" spc="-1" strike="noStrike" baseline="-25000">
                <a:solidFill>
                  <a:srgbClr val="f8081f"/>
                </a:solidFill>
                <a:latin typeface="Times New Roman"/>
              </a:rPr>
              <a:t>浮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8081f"/>
                </a:solidFill>
                <a:latin typeface="Times New Roman"/>
              </a:rPr>
              <a:t>G</a:t>
            </a:r>
            <a:r>
              <a:rPr b="1" lang="zh-CN" sz="2000" spc="-1" strike="noStrike" baseline="-25000">
                <a:solidFill>
                  <a:srgbClr val="f8081f"/>
                </a:solidFill>
                <a:latin typeface="Times New Roman"/>
              </a:rPr>
              <a:t>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301840" y="1989000"/>
            <a:ext cx="4435560" cy="598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876400" y="1988280"/>
            <a:ext cx="3434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浮力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68360" y="2932200"/>
            <a:ext cx="4435560" cy="59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76400" y="2919960"/>
            <a:ext cx="3434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浮力产生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268360" y="3884760"/>
            <a:ext cx="4435560" cy="59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273480" y="3882960"/>
            <a:ext cx="343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阿基米德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"/>
          <p:cNvSpPr/>
          <p:nvPr/>
        </p:nvSpPr>
        <p:spPr>
          <a:xfrm>
            <a:off x="2268360" y="4859280"/>
            <a:ext cx="4435560" cy="598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7e6e6"/>
              </a:gs>
              <a:gs pos="50000">
                <a:srgbClr val="f7f7f7"/>
              </a:gs>
              <a:gs pos="100000">
                <a:srgbClr val="e7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900520" y="4844880"/>
            <a:ext cx="3433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浮沉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611280" y="836640"/>
            <a:ext cx="2055600" cy="633240"/>
            <a:chOff x="611280" y="836640"/>
            <a:chExt cx="2055600" cy="633240"/>
          </a:xfrm>
        </p:grpSpPr>
        <p:grpSp>
          <p:nvGrpSpPr>
            <p:cNvPr id="52" name="Group 11"/>
            <p:cNvGrpSpPr/>
            <p:nvPr/>
          </p:nvGrpSpPr>
          <p:grpSpPr>
            <a:xfrm>
              <a:off x="611280" y="841320"/>
              <a:ext cx="2055600" cy="596520"/>
              <a:chOff x="611280" y="841320"/>
              <a:chExt cx="2055600" cy="596520"/>
            </a:xfrm>
          </p:grpSpPr>
          <p:sp>
            <p:nvSpPr>
              <p:cNvPr id="53" name="MH_Other_2"/>
              <p:cNvSpPr/>
              <p:nvPr/>
            </p:nvSpPr>
            <p:spPr>
              <a:xfrm>
                <a:off x="729360" y="971280"/>
                <a:ext cx="1835280" cy="38088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841320"/>
                <a:ext cx="2055600" cy="59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MH_Other_9"/>
              <p:cNvSpPr/>
              <p:nvPr/>
            </p:nvSpPr>
            <p:spPr>
              <a:xfrm>
                <a:off x="832320" y="1049760"/>
                <a:ext cx="221400" cy="21528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MH_Other_10"/>
              <p:cNvSpPr/>
              <p:nvPr/>
            </p:nvSpPr>
            <p:spPr>
              <a:xfrm>
                <a:off x="882720" y="10972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MH_SubTitle_4"/>
            <p:cNvSpPr/>
            <p:nvPr/>
          </p:nvSpPr>
          <p:spPr>
            <a:xfrm>
              <a:off x="1260360" y="836640"/>
              <a:ext cx="12978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9640" y="1789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浮力的定义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浸在液体中的物体受到液体对物体向上托的力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几点讨论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区分：浸在、浸入、浸没、没入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浮力的方向：竖直向上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浮力的测量：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zh-CN" sz="2400" spc="-1" strike="noStrike" baseline="-25000">
                <a:solidFill>
                  <a:srgbClr val="cc0000"/>
                </a:solidFill>
                <a:latin typeface="Times New Roman"/>
                <a:ea typeface="宋体"/>
              </a:rPr>
              <a:t>浮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液体和气体中的浮力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539640" y="1270080"/>
            <a:ext cx="3564000" cy="520560"/>
            <a:chOff x="539640" y="1270080"/>
            <a:chExt cx="3564000" cy="520560"/>
          </a:xfrm>
        </p:grpSpPr>
        <p:sp>
          <p:nvSpPr>
            <p:cNvPr id="60" name="AutoShape 4"/>
            <p:cNvSpPr/>
            <p:nvPr/>
          </p:nvSpPr>
          <p:spPr>
            <a:xfrm>
              <a:off x="539640" y="1270080"/>
              <a:ext cx="3564000" cy="50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620640" y="1270080"/>
              <a:ext cx="32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一、浮力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9640" y="585720"/>
            <a:ext cx="2055960" cy="633600"/>
            <a:chOff x="539640" y="585720"/>
            <a:chExt cx="2055960" cy="633600"/>
          </a:xfrm>
        </p:grpSpPr>
        <p:grpSp>
          <p:nvGrpSpPr>
            <p:cNvPr id="63" name="Group 11"/>
            <p:cNvGrpSpPr/>
            <p:nvPr/>
          </p:nvGrpSpPr>
          <p:grpSpPr>
            <a:xfrm>
              <a:off x="539640" y="590760"/>
              <a:ext cx="2055960" cy="596880"/>
              <a:chOff x="539640" y="590760"/>
              <a:chExt cx="2055960" cy="596880"/>
            </a:xfrm>
          </p:grpSpPr>
          <p:sp>
            <p:nvSpPr>
              <p:cNvPr id="64" name="MH_Other_2"/>
              <p:cNvSpPr/>
              <p:nvPr/>
            </p:nvSpPr>
            <p:spPr>
              <a:xfrm>
                <a:off x="657720" y="720720"/>
                <a:ext cx="183564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590760"/>
                <a:ext cx="205596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MH_Other_9"/>
              <p:cNvSpPr/>
              <p:nvPr/>
            </p:nvSpPr>
            <p:spPr>
              <a:xfrm>
                <a:off x="760680" y="79920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MH_Other_10"/>
              <p:cNvSpPr/>
              <p:nvPr/>
            </p:nvSpPr>
            <p:spPr>
              <a:xfrm>
                <a:off x="811440" y="8470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MH_SubTitle_4"/>
            <p:cNvSpPr/>
            <p:nvPr/>
          </p:nvSpPr>
          <p:spPr>
            <a:xfrm>
              <a:off x="1188720" y="585720"/>
              <a:ext cx="12978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636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几点讨论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浮力是物体在液体中所受液体对物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压力的合力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浮力是液体对物体向上和向下的压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力差，而不能理解为一定是上表面与下表面受到的压力之差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903240" indent="-90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向上和向下的压力差（浮力）的方向竖直向上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63600" y="129528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浮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=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向上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 baseline="-25000">
                <a:solidFill>
                  <a:srgbClr val="cc0000"/>
                </a:solidFill>
                <a:latin typeface="Times New Roman"/>
                <a:ea typeface="楷体_GB2312"/>
              </a:rPr>
              <a:t>向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6958080" y="1695600"/>
            <a:ext cx="1495440" cy="1656720"/>
            <a:chOff x="6958080" y="1695600"/>
            <a:chExt cx="1495440" cy="1656720"/>
          </a:xfrm>
        </p:grpSpPr>
        <p:sp>
          <p:nvSpPr>
            <p:cNvPr id="72" name="AutoShape 6"/>
            <p:cNvSpPr/>
            <p:nvPr/>
          </p:nvSpPr>
          <p:spPr>
            <a:xfrm>
              <a:off x="7149960" y="2595240"/>
              <a:ext cx="1236600" cy="660240"/>
            </a:xfrm>
            <a:prstGeom prst="flowChartAlternateProcess">
              <a:avLst/>
            </a:prstGeom>
            <a:solidFill>
              <a:srgbClr val="cd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>
              <a:off x="7167600" y="2079360"/>
              <a:ext cx="121896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7162920" y="2091960"/>
              <a:ext cx="1223640" cy="610920"/>
            </a:xfrm>
            <a:prstGeom prst="rect">
              <a:avLst/>
            </a:prstGeom>
            <a:solidFill>
              <a:srgbClr val="c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6958080" y="1695600"/>
              <a:ext cx="1495440" cy="1007640"/>
            </a:xfrm>
            <a:custGeom>
              <a:avLst/>
              <a:gdLst/>
              <a:ahLst/>
              <a:rect l="l" t="t" r="r" b="b"/>
              <a:pathLst>
                <a:path w="1740" h="1129">
                  <a:moveTo>
                    <a:pt x="225" y="1129"/>
                  </a:moveTo>
                  <a:lnTo>
                    <a:pt x="225" y="360"/>
                  </a:lnTo>
                  <a:lnTo>
                    <a:pt x="225" y="180"/>
                  </a:lnTo>
                  <a:lnTo>
                    <a:pt x="0" y="45"/>
                  </a:lnTo>
                  <a:lnTo>
                    <a:pt x="285" y="0"/>
                  </a:lnTo>
                  <a:lnTo>
                    <a:pt x="1740" y="0"/>
                  </a:lnTo>
                  <a:lnTo>
                    <a:pt x="1665" y="120"/>
                  </a:lnTo>
                  <a:lnTo>
                    <a:pt x="1665" y="112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V="1">
              <a:off x="7738920" y="2908080"/>
              <a:ext cx="0" cy="4442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 flipV="1">
              <a:off x="8013240" y="2598120"/>
              <a:ext cx="314280" cy="694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V="1">
              <a:off x="7160760" y="2622240"/>
              <a:ext cx="294840" cy="1108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7737480" y="1919160"/>
              <a:ext cx="0" cy="3978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4"/>
            <p:cNvSpPr/>
            <p:nvPr/>
          </p:nvSpPr>
          <p:spPr>
            <a:xfrm>
              <a:off x="7378560" y="2307960"/>
              <a:ext cx="720720" cy="57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091" y="21600"/>
                  </a:lnTo>
                  <a:lnTo>
                    <a:pt x="1650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5"/>
          <p:cNvGrpSpPr/>
          <p:nvPr/>
        </p:nvGrpSpPr>
        <p:grpSpPr>
          <a:xfrm>
            <a:off x="264960" y="644400"/>
            <a:ext cx="4321440" cy="520560"/>
            <a:chOff x="264960" y="644400"/>
            <a:chExt cx="4321440" cy="520560"/>
          </a:xfrm>
        </p:grpSpPr>
        <p:sp>
          <p:nvSpPr>
            <p:cNvPr id="82" name="AutoShape 16"/>
            <p:cNvSpPr/>
            <p:nvPr/>
          </p:nvSpPr>
          <p:spPr>
            <a:xfrm>
              <a:off x="264960" y="644400"/>
              <a:ext cx="4321440" cy="50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7"/>
            <p:cNvSpPr/>
            <p:nvPr/>
          </p:nvSpPr>
          <p:spPr>
            <a:xfrm>
              <a:off x="363600" y="6444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二、浮力的产生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306360" y="681120"/>
            <a:ext cx="3871800" cy="631800"/>
            <a:chOff x="306360" y="681120"/>
            <a:chExt cx="3871800" cy="631800"/>
          </a:xfrm>
        </p:grpSpPr>
        <p:sp>
          <p:nvSpPr>
            <p:cNvPr id="85" name="Text Box 3"/>
            <p:cNvSpPr/>
            <p:nvPr/>
          </p:nvSpPr>
          <p:spPr>
            <a:xfrm>
              <a:off x="1170000" y="793800"/>
              <a:ext cx="2922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306360" y="722520"/>
              <a:ext cx="3871800" cy="503280"/>
            </a:xfrm>
            <a:prstGeom prst="roundRect">
              <a:avLst>
                <a:gd name="adj" fmla="val 22713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477720" y="793800"/>
              <a:ext cx="368280" cy="231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7c8a8"/>
                </a:gs>
                <a:gs pos="100000">
                  <a:srgbClr val="ed7d3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469800" y="681120"/>
              <a:ext cx="369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三、阿基米德原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457200" y="16779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内容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浸在液体中的物体受到向上的浮力，浮力的大小等于物体排开液体的重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数学表达式：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排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浮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排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ff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液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 V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Times New Roman"/>
                <a:ea typeface="宋体"/>
              </a:rPr>
              <a:t>排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决定式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气体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84200" y="1890720"/>
            <a:ext cx="819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区分：浸没、浸入、浸在、没入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液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l-GR" sz="2800" spc="-1" strike="noStrike">
                <a:solidFill>
                  <a:srgbClr val="ff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的密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体排开的液体的体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决定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明浮力大小只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力大小与物体的形状、密度，浸没在液体中的深度及物体在液体中是否运动等因素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84200" y="765000"/>
            <a:ext cx="6172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Arial"/>
                <a:ea typeface="黑体"/>
              </a:rPr>
              <a:t>关于阿基米德原理的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6443640" y="2565360"/>
            <a:ext cx="2017440" cy="1988280"/>
            <a:chOff x="6443640" y="2565360"/>
            <a:chExt cx="2017440" cy="1988280"/>
          </a:xfrm>
        </p:grpSpPr>
        <p:grpSp>
          <p:nvGrpSpPr>
            <p:cNvPr id="93" name="Group 3"/>
            <p:cNvGrpSpPr/>
            <p:nvPr/>
          </p:nvGrpSpPr>
          <p:grpSpPr>
            <a:xfrm>
              <a:off x="6443640" y="2565360"/>
              <a:ext cx="2017440" cy="1978560"/>
              <a:chOff x="6443640" y="2565360"/>
              <a:chExt cx="2017440" cy="1978560"/>
            </a:xfrm>
          </p:grpSpPr>
          <p:grpSp>
            <p:nvGrpSpPr>
              <p:cNvPr id="94" name="Group 4"/>
              <p:cNvGrpSpPr/>
              <p:nvPr/>
            </p:nvGrpSpPr>
            <p:grpSpPr>
              <a:xfrm>
                <a:off x="6527160" y="3088800"/>
                <a:ext cx="1891800" cy="1454760"/>
                <a:chOff x="6527160" y="3088800"/>
                <a:chExt cx="1891800" cy="1454760"/>
              </a:xfrm>
            </p:grpSpPr>
            <p:sp>
              <p:nvSpPr>
                <p:cNvPr id="95" name="Rectangle 5"/>
                <p:cNvSpPr/>
                <p:nvPr/>
              </p:nvSpPr>
              <p:spPr>
                <a:xfrm>
                  <a:off x="6527160" y="3088800"/>
                  <a:ext cx="1891800" cy="37224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6"/>
                <p:cNvSpPr/>
                <p:nvPr/>
              </p:nvSpPr>
              <p:spPr>
                <a:xfrm>
                  <a:off x="6527160" y="3245400"/>
                  <a:ext cx="1891800" cy="129816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AutoShape 7"/>
              <p:cNvSpPr/>
              <p:nvPr/>
            </p:nvSpPr>
            <p:spPr>
              <a:xfrm>
                <a:off x="6527160" y="2657880"/>
                <a:ext cx="1892160" cy="1886040"/>
              </a:xfrm>
              <a:prstGeom prst="roundRect">
                <a:avLst>
                  <a:gd name="adj" fmla="val 9588"/>
                </a:avLst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6443640" y="2565360"/>
                <a:ext cx="2017440" cy="24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9"/>
            <p:cNvSpPr/>
            <p:nvPr/>
          </p:nvSpPr>
          <p:spPr>
            <a:xfrm>
              <a:off x="6544440" y="3084840"/>
              <a:ext cx="1850040" cy="0"/>
            </a:xfrm>
            <a:prstGeom prst="line">
              <a:avLst/>
            </a:prstGeom>
            <a:ln w="19080">
              <a:solidFill>
                <a:srgbClr val="3690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0"/>
            <p:cNvGrpSpPr/>
            <p:nvPr/>
          </p:nvGrpSpPr>
          <p:grpSpPr>
            <a:xfrm>
              <a:off x="7082640" y="2857320"/>
              <a:ext cx="1009080" cy="1696320"/>
              <a:chOff x="7082640" y="2857320"/>
              <a:chExt cx="1009080" cy="169632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7082640" y="3440880"/>
                <a:ext cx="711000" cy="549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7082640" y="3441960"/>
                <a:ext cx="706680" cy="550800"/>
              </a:xfrm>
              <a:prstGeom prst="rect">
                <a:avLst/>
              </a:prstGeom>
              <a:solidFill>
                <a:srgbClr val="cd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7452720" y="3732480"/>
                <a:ext cx="0" cy="61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4"/>
              <p:cNvSpPr/>
              <p:nvPr/>
            </p:nvSpPr>
            <p:spPr>
              <a:xfrm>
                <a:off x="7553880" y="4187520"/>
                <a:ext cx="211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5"/>
              <p:cNvSpPr/>
              <p:nvPr/>
            </p:nvSpPr>
            <p:spPr>
              <a:xfrm>
                <a:off x="7522560" y="2857320"/>
                <a:ext cx="56916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 flipV="1">
                <a:off x="7452720" y="3020040"/>
                <a:ext cx="0" cy="722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17"/>
          <p:cNvSpPr/>
          <p:nvPr/>
        </p:nvSpPr>
        <p:spPr>
          <a:xfrm>
            <a:off x="380880" y="1752480"/>
            <a:ext cx="7848720" cy="23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物体的浮沉条件：浸没在液体中物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上浮：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下沉：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悬浮：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179280" y="981000"/>
            <a:ext cx="4321440" cy="590400"/>
            <a:chOff x="179280" y="981000"/>
            <a:chExt cx="4321440" cy="590400"/>
          </a:xfrm>
        </p:grpSpPr>
        <p:sp>
          <p:nvSpPr>
            <p:cNvPr id="109" name="Text Box 20"/>
            <p:cNvSpPr/>
            <p:nvPr/>
          </p:nvSpPr>
          <p:spPr>
            <a:xfrm>
              <a:off x="1042920" y="1052280"/>
              <a:ext cx="2922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179280" y="981000"/>
              <a:ext cx="4321440" cy="50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351000" y="1052280"/>
              <a:ext cx="368280" cy="231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7c8a8"/>
                </a:gs>
                <a:gs pos="100000">
                  <a:srgbClr val="ed7d3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"/>
            <p:cNvSpPr/>
            <p:nvPr/>
          </p:nvSpPr>
          <p:spPr>
            <a:xfrm>
              <a:off x="277920" y="981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31b53"/>
                  </a:solidFill>
                  <a:latin typeface="Times New Roman"/>
                </a:rPr>
                <a:t>四、物体的浮沉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24000" y="3933720"/>
            <a:ext cx="7848360" cy="23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推导出实心物体的浮沉与密度的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上浮：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＞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下沉：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悬浮：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</a:rPr>
              <a:t>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684360" y="2060640"/>
            <a:ext cx="4248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漂浮物体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， 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液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i="1" lang="el-GR" sz="28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6480000" y="1700280"/>
            <a:ext cx="2160360" cy="2484000"/>
            <a:chOff x="6480000" y="1700280"/>
            <a:chExt cx="2160360" cy="2484000"/>
          </a:xfrm>
        </p:grpSpPr>
        <p:grpSp>
          <p:nvGrpSpPr>
            <p:cNvPr id="116" name="Group 10"/>
            <p:cNvGrpSpPr/>
            <p:nvPr/>
          </p:nvGrpSpPr>
          <p:grpSpPr>
            <a:xfrm>
              <a:off x="6480000" y="1989000"/>
              <a:ext cx="2160360" cy="2195280"/>
              <a:chOff x="6480000" y="1989000"/>
              <a:chExt cx="2160360" cy="2195280"/>
            </a:xfrm>
          </p:grpSpPr>
          <p:grpSp>
            <p:nvGrpSpPr>
              <p:cNvPr id="117" name="Group 11"/>
              <p:cNvGrpSpPr/>
              <p:nvPr/>
            </p:nvGrpSpPr>
            <p:grpSpPr>
              <a:xfrm>
                <a:off x="6569280" y="2569680"/>
                <a:ext cx="2025720" cy="1614240"/>
                <a:chOff x="6569280" y="2569680"/>
                <a:chExt cx="2025720" cy="1614240"/>
              </a:xfrm>
            </p:grpSpPr>
            <p:sp>
              <p:nvSpPr>
                <p:cNvPr id="118" name="Rectangle 12"/>
                <p:cNvSpPr/>
                <p:nvPr/>
              </p:nvSpPr>
              <p:spPr>
                <a:xfrm>
                  <a:off x="6569280" y="2569680"/>
                  <a:ext cx="2025720" cy="412920"/>
                </a:xfrm>
                <a:prstGeom prst="rect">
                  <a:avLst/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13"/>
                <p:cNvSpPr/>
                <p:nvPr/>
              </p:nvSpPr>
              <p:spPr>
                <a:xfrm>
                  <a:off x="6569280" y="2743560"/>
                  <a:ext cx="2025720" cy="1440360"/>
                </a:xfrm>
                <a:prstGeom prst="roundRect">
                  <a:avLst>
                    <a:gd name="adj" fmla="val 11241"/>
                  </a:avLst>
                </a:prstGeom>
                <a:solidFill>
                  <a:srgbClr val="c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AutoShape 14"/>
              <p:cNvSpPr/>
              <p:nvPr/>
            </p:nvSpPr>
            <p:spPr>
              <a:xfrm>
                <a:off x="6569280" y="2091600"/>
                <a:ext cx="2026080" cy="2092680"/>
              </a:xfrm>
              <a:custGeom>
                <a:avLst/>
                <a:gdLst>
                  <a:gd name="textAreaLeft" fmla="*/ 56880 w 2026080"/>
                  <a:gd name="textAreaRight" fmla="*/ 1969200 w 2026080"/>
                  <a:gd name="textAreaTop" fmla="*/ 56880 h 2092680"/>
                  <a:gd name="textAreaBottom" fmla="*/ 2035800 h 2092680"/>
                </a:gdLst>
                <a:ahLst/>
                <a:rect l="textAreaLeft" t="textAreaTop" r="textAreaRight" b="textAreaBottom"/>
                <a:pathLst>
                  <a:path w="21600" h="22310">
                    <a:moveTo>
                      <a:pt x="2071" y="0"/>
                    </a:moveTo>
                    <a:arcTo wR="2071" hR="2071" stAng="16200000" swAng="-5400000"/>
                    <a:lnTo>
                      <a:pt x="0" y="20239"/>
                    </a:lnTo>
                    <a:arcTo wR="2071" hR="2071" stAng="10800000" swAng="-5400000"/>
                    <a:lnTo>
                      <a:pt x="19529" y="22310"/>
                    </a:lnTo>
                    <a:arcTo wR="2071" hR="2071" stAng="5400000" swAng="-5400000"/>
                    <a:lnTo>
                      <a:pt x="21600" y="2071"/>
                    </a:lnTo>
                    <a:arcTo wR="2071" hR="2071" stAng="0" swAng="-5400000"/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5"/>
              <p:cNvSpPr/>
              <p:nvPr/>
            </p:nvSpPr>
            <p:spPr>
              <a:xfrm>
                <a:off x="6480000" y="1989000"/>
                <a:ext cx="2160360" cy="27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6"/>
            <p:cNvGrpSpPr/>
            <p:nvPr/>
          </p:nvGrpSpPr>
          <p:grpSpPr>
            <a:xfrm>
              <a:off x="6588000" y="1700280"/>
              <a:ext cx="1981440" cy="1842480"/>
              <a:chOff x="6588000" y="1700280"/>
              <a:chExt cx="1981440" cy="1842480"/>
            </a:xfrm>
          </p:grpSpPr>
          <p:grpSp>
            <p:nvGrpSpPr>
              <p:cNvPr id="123" name="Group 17"/>
              <p:cNvGrpSpPr/>
              <p:nvPr/>
            </p:nvGrpSpPr>
            <p:grpSpPr>
              <a:xfrm>
                <a:off x="7164360" y="2347920"/>
                <a:ext cx="762120" cy="612720"/>
                <a:chOff x="7164360" y="2347920"/>
                <a:chExt cx="762120" cy="612720"/>
              </a:xfrm>
            </p:grpSpPr>
            <p:sp>
              <p:nvSpPr>
                <p:cNvPr id="124" name="Rectangle 18"/>
                <p:cNvSpPr/>
                <p:nvPr/>
              </p:nvSpPr>
              <p:spPr>
                <a:xfrm>
                  <a:off x="7164360" y="2347920"/>
                  <a:ext cx="762120" cy="6098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19"/>
                <p:cNvSpPr/>
                <p:nvPr/>
              </p:nvSpPr>
              <p:spPr>
                <a:xfrm>
                  <a:off x="7164360" y="2565360"/>
                  <a:ext cx="757440" cy="395280"/>
                </a:xfrm>
                <a:prstGeom prst="rect">
                  <a:avLst/>
                </a:prstGeom>
                <a:solidFill>
                  <a:srgbClr val="cd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Line 20"/>
              <p:cNvSpPr/>
              <p:nvPr/>
            </p:nvSpPr>
            <p:spPr>
              <a:xfrm>
                <a:off x="7561440" y="267120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21"/>
              <p:cNvSpPr/>
              <p:nvPr/>
            </p:nvSpPr>
            <p:spPr>
              <a:xfrm>
                <a:off x="7669080" y="3176640"/>
                <a:ext cx="22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22"/>
              <p:cNvSpPr/>
              <p:nvPr/>
            </p:nvSpPr>
            <p:spPr>
              <a:xfrm>
                <a:off x="7635960" y="1700280"/>
                <a:ext cx="6094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23"/>
              <p:cNvSpPr/>
              <p:nvPr/>
            </p:nvSpPr>
            <p:spPr>
              <a:xfrm>
                <a:off x="6588000" y="2565360"/>
                <a:ext cx="1981440" cy="0"/>
              </a:xfrm>
              <a:prstGeom prst="line">
                <a:avLst/>
              </a:prstGeom>
              <a:ln w="19080">
                <a:solidFill>
                  <a:srgbClr val="3690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24"/>
              <p:cNvSpPr/>
              <p:nvPr/>
            </p:nvSpPr>
            <p:spPr>
              <a:xfrm flipV="1">
                <a:off x="7561440" y="1881360"/>
                <a:ext cx="0" cy="801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Text Box 25"/>
          <p:cNvSpPr/>
          <p:nvPr/>
        </p:nvSpPr>
        <p:spPr>
          <a:xfrm>
            <a:off x="684360" y="3989520"/>
            <a:ext cx="19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835280" y="549360"/>
            <a:ext cx="5832360" cy="900000"/>
            <a:chOff x="1835280" y="549360"/>
            <a:chExt cx="5832360" cy="900000"/>
          </a:xfrm>
        </p:grpSpPr>
        <p:pic>
          <p:nvPicPr>
            <p:cNvPr id="133" name="TextBox 1" descr=""/>
            <p:cNvPicPr/>
            <p:nvPr/>
          </p:nvPicPr>
          <p:blipFill>
            <a:blip r:embed="rId1"/>
            <a:stretch/>
          </p:blipFill>
          <p:spPr>
            <a:xfrm>
              <a:off x="1835280" y="549360"/>
              <a:ext cx="5832360" cy="9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2340000" y="663480"/>
              <a:ext cx="478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运用浮力知识解决问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5"/>
          <p:cNvSpPr/>
          <p:nvPr/>
        </p:nvSpPr>
        <p:spPr>
          <a:xfrm>
            <a:off x="900000" y="1521000"/>
            <a:ext cx="5977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、常用的一些概念和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826920" y="2349360"/>
            <a:ext cx="7417080" cy="377964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密度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浮力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力的平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液体内部压强规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阿基米德原理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．物体浮沉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21:2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